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051E-52D6-42C8-8EFE-252573CB0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4588-A607-46DE-BA83-79BACC90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9FA6-4AC3-404D-A4B7-7C2BE3F28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4D44-CEA6-4129-BE91-510109AFB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D78D-CA4F-403B-8F6E-9775F5BF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28ED-FC47-4803-AAC6-B7477F60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5E3C-5571-43E2-8221-6F1AEF07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DD48-4148-4578-8A25-8D4C4173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A937-B8F8-4B27-9590-7CD4CE72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B7FF-1623-4CD0-AA30-03C5E002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5C0A-61B9-494C-A037-189EEAAC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6132-A096-49F1-B04C-D4A53923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FC81-8F8B-4775-89BB-7388BE22C0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r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a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las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ictures taken by stud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ictures taken by stud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Follow format suggestions below to write your conclus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Calibri"/>
              </a:rPr>
              <a:t>States purpose of investig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Calibri"/>
              </a:rPr>
              <a:t>General statement of major finding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Calibri"/>
              </a:rPr>
              <a:t>Include measures of central tendency and acknowledgment of instrument error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Calibri"/>
              </a:rPr>
              <a:t>Statement as to data supporting hypothesis, “which was…state hypothesi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Calibri"/>
              </a:rPr>
              <a:t>Acknowledge Systematic Err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Calibri"/>
              </a:rPr>
              <a:t>Gives logical scientific explanation for res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Calibri"/>
              </a:rPr>
              <a:t>Suggestions for further stu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s Cited (MLA)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must match your report, minimum of 4 articles or reference boo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agraph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0" y="6094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sert your MLA citation here including the URL (web address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ert your paragraph here (your paragraph maybe more than 1 slide long; do not use font smaller than this one which is  20 Calibr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agraph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0" y="6094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sert your MLA citation here including the URL (web address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ert your paragraph here (your paragraph maybe more than 1 slide long; do not use font smaller than this one which is  20 Calibr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agraph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0" y="6094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sert your MLA citation here including the URL (web address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ert your paragraph here (your paragraph maybe more than 1 slide long; do not use font smaller than this one which is  20 Calibr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agraph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0" y="6094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sert your MLA citation here including the URL (web address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ert your paragraph here (your paragraph maybe more than 1 slide long; do not use font smaller than this one which is  20 Calibr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esearch Ques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(The effect of ______________ on ______________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 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ert important information from your research…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685800" y="56386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ite your references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 and 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graph giv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tionale/importance of study/why is it relevan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urpose of this experiment is to determine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predict that …………  because*……………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449280" y="6291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* Based on the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perimental Design 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0" y="1066680"/>
          <a:ext cx="8991720" cy="5299200"/>
        </p:xfrm>
        <a:graphic>
          <a:graphicData uri="http://schemas.openxmlformats.org/drawingml/2006/table">
            <a:tbl>
              <a:tblPr/>
              <a:tblGrid>
                <a:gridCol w="1295280"/>
                <a:gridCol w="1752840"/>
                <a:gridCol w="1752480"/>
                <a:gridCol w="1295280"/>
                <a:gridCol w="1371600"/>
                <a:gridCol w="1524240"/>
              </a:tblGrid>
              <a:tr h="114300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ypothesi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320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ependent Variabl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3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s of 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%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noberknock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noberknoc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nb.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nb.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nb.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73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284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enden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b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376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oll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ble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ant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terials and Equi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776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ata 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84320" y="1447920"/>
          <a:ext cx="8153280" cy="4776840"/>
        </p:xfrm>
        <a:graphic>
          <a:graphicData uri="http://schemas.openxmlformats.org/drawingml/2006/table">
            <a:tbl>
              <a:tblPr/>
              <a:tblGrid>
                <a:gridCol w="1339560"/>
                <a:gridCol w="1143000"/>
                <a:gridCol w="1219320"/>
                <a:gridCol w="1143000"/>
                <a:gridCol w="1066680"/>
                <a:gridCol w="1076400"/>
                <a:gridCol w="1165320"/>
              </a:tblGrid>
              <a:tr h="630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V:  X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uni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70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V:  X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uni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ial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ial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ial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ial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ial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/A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2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09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9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0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8" name="TextBox 4"/>
          <p:cNvSpPr/>
          <p:nvPr/>
        </p:nvSpPr>
        <p:spPr>
          <a:xfrm>
            <a:off x="700200" y="641988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May use your own table from your lab report if it is in the above form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xplosion 2 5"/>
          <p:cNvSpPr/>
          <p:nvPr/>
        </p:nvSpPr>
        <p:spPr>
          <a:xfrm>
            <a:off x="79200" y="6483240"/>
            <a:ext cx="533520" cy="30492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103320" y="511200"/>
            <a:ext cx="92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effect of _________________ on _____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Graph of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609480" y="5029200"/>
            <a:ext cx="70866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tatement of Analys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Calibri"/>
                <a:ea typeface="Arial"/>
              </a:rPr>
              <a:t>The graph shows that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ictures taken by Stud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21:54:10Z</dcterms:created>
  <dc:creator>Donna;Bloomenstiel</dc:creator>
  <dc:description/>
  <dc:language>en-US</dc:language>
  <cp:lastModifiedBy>Don B</cp:lastModifiedBy>
  <dcterms:modified xsi:type="dcterms:W3CDTF">2013-11-30T01:51:02Z</dcterms:modified>
  <cp:revision>18</cp:revision>
  <dc:subject/>
  <dc:title>Science Fair Project</dc:title>
</cp:coreProperties>
</file>