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5AD-7694-42C0-8AAB-C2CB8E98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998-4D20-42C3-9E57-1AE24F5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AFE-185C-46DB-95A0-3C02B27C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76E-10D4-4026-B165-48AEF1AB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7D7-6F11-436F-92C8-078DB6B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AFF-2331-4909-9570-4B3851F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015-FF4E-4531-8FDE-72E9F8E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B55-637D-4D2B-9E8D-07C6A611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548-9D9C-4B1A-9547-BD6D41D2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FEF-6F67-4978-B998-591AD4D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F9C-E7C5-419A-B52B-2AE1F31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0DF-A617-4517-AFE2-9623C25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78D-21EA-4728-83C9-EE3F61078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llow format suggestions below to write your conclus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s purpose of invest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eneral statement of major fin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Include measures of central tendency and acknowledgment of instrument error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tatement as to data supporting hypothesis, “which was…state hypothesi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Acknowledge Systematic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Gives logical scientific explanation for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alibri"/>
              </a:rPr>
              <a:t>Suggestions for further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(MLA)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ust match your report, minimum of 4 articles or reference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ert your MLA citation here including the URL (web addres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your paragraph here (your paragraph maybe more than 1 slide long; do not use font smaller than this one which is  20 Calibr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earch Ques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The effect of ______________ on 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important information from your research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85800" y="5638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ite your referenc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and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giv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nale/importance of study/why is it relev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experiment is to determine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predict that …………  because*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49280" y="6291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Based on th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al Design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066680"/>
          <a:ext cx="8991720" cy="5299200"/>
        </p:xfrm>
        <a:graphic>
          <a:graphicData uri="http://schemas.openxmlformats.org/drawingml/2006/table">
            <a:tbl>
              <a:tblPr/>
              <a:tblGrid>
                <a:gridCol w="1295280"/>
                <a:gridCol w="1752840"/>
                <a:gridCol w="1752480"/>
                <a:gridCol w="1295280"/>
                <a:gridCol w="1371600"/>
                <a:gridCol w="1524240"/>
              </a:tblGrid>
              <a:tr h="11430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pothes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t Varia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s of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berkn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b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ials and Equ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776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4320" y="1447920"/>
          <a:ext cx="8153280" cy="4776840"/>
        </p:xfrm>
        <a:graphic>
          <a:graphicData uri="http://schemas.openxmlformats.org/drawingml/2006/table">
            <a:tbl>
              <a:tblPr/>
              <a:tblGrid>
                <a:gridCol w="1339560"/>
                <a:gridCol w="1143000"/>
                <a:gridCol w="1219320"/>
                <a:gridCol w="1143000"/>
                <a:gridCol w="1066680"/>
                <a:gridCol w="1076400"/>
                <a:gridCol w="116532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V:  X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al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/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700200" y="6419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y use your own table from your lab report if it is in the above form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xplosion 2 5"/>
          <p:cNvSpPr/>
          <p:nvPr/>
        </p:nvSpPr>
        <p:spPr>
          <a:xfrm>
            <a:off x="79200" y="6483240"/>
            <a:ext cx="533520" cy="3049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03320" y="511200"/>
            <a:ext cx="92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_________________ on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Graph of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9480" y="5029200"/>
            <a:ext cx="7086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atement of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Calibri"/>
                <a:ea typeface="Arial"/>
              </a:rPr>
              <a:t>The graph shows that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ctures taken by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54:10Z</dcterms:created>
  <dc:creator>Donna;Bloomenstiel</dc:creator>
  <dc:description/>
  <dc:language>en-US</dc:language>
  <cp:lastModifiedBy>Don B</cp:lastModifiedBy>
  <dcterms:modified xsi:type="dcterms:W3CDTF">2013-11-30T01:51:02Z</dcterms:modified>
  <cp:revision>18</cp:revision>
  <dc:subject/>
  <dc:title>Science Fair Project</dc:title>
</cp:coreProperties>
</file>