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F0A-BC2C-4034-91B3-4101E15A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628-0CC8-4CEA-A4A9-D943522F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986-CFF8-496C-B472-DE4C6395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403-5052-491F-90CA-CEA5C896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6F9-8A19-4047-BCA9-07C9696E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774-8E5B-440B-AF82-87D8ED2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D3C-5DC4-4F85-B347-0308CDE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139-E5A9-4B85-915E-D16D2F28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C39-FEBA-494B-ADD1-3FC7250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A9C-2DCD-4694-B868-98D706F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58D-C3AF-475F-87AA-F33B2394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E06-82F4-45E0-BC56-B16BBB4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231D-747A-4ECC-A8FB-5D1A22541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llow format suggestions below to write your conclus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s purpose of invest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eneral statement of major find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Include measures of central tendency and acknowledgment of instrument error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ment as to data supporting hypothesis, “which was…state hypothesi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Acknowledge Systematic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ives logical scientific explanation for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uggestions for further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(MLA)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ust match your report, minimum of 4 articles or reference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earch Ques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The effect of ______________ on 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important information from your research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85800" y="56386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te your referenc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and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graph giv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e/importance of study/why is it relev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rpose of this experiment is to determine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predict that …………  because*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49280" y="6291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Based on th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066680"/>
          <a:ext cx="8991720" cy="5299200"/>
        </p:xfrm>
        <a:graphic>
          <a:graphicData uri="http://schemas.openxmlformats.org/drawingml/2006/table">
            <a:tbl>
              <a:tblPr/>
              <a:tblGrid>
                <a:gridCol w="1295280"/>
                <a:gridCol w="1752840"/>
                <a:gridCol w="1752480"/>
                <a:gridCol w="1295280"/>
                <a:gridCol w="1371600"/>
                <a:gridCol w="1524240"/>
              </a:tblGrid>
              <a:tr h="11430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pothes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 Varia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s of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l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terials and Equi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76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4320" y="1447920"/>
          <a:ext cx="8153280" cy="4776840"/>
        </p:xfrm>
        <a:graphic>
          <a:graphicData uri="http://schemas.openxmlformats.org/drawingml/2006/table">
            <a:tbl>
              <a:tblPr/>
              <a:tblGrid>
                <a:gridCol w="1339560"/>
                <a:gridCol w="1143000"/>
                <a:gridCol w="1219320"/>
                <a:gridCol w="1143000"/>
                <a:gridCol w="1066680"/>
                <a:gridCol w="1076400"/>
                <a:gridCol w="116532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V:  X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: 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/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700200" y="6419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y use your own table from your lab report if it is in the above form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xplosion 2 5"/>
          <p:cNvSpPr/>
          <p:nvPr/>
        </p:nvSpPr>
        <p:spPr>
          <a:xfrm>
            <a:off x="79200" y="6483240"/>
            <a:ext cx="533520" cy="3049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03320" y="511200"/>
            <a:ext cx="92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_________________ on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Graph of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9480" y="5029200"/>
            <a:ext cx="708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atement of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Calibri"/>
                <a:ea typeface="Arial"/>
              </a:rPr>
              <a:t>The graph shows that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1:54:10Z</dcterms:created>
  <dc:creator>Donna;Bloomenstiel</dc:creator>
  <dc:description/>
  <dc:language>en-US</dc:language>
  <cp:lastModifiedBy>Don B</cp:lastModifiedBy>
  <dcterms:modified xsi:type="dcterms:W3CDTF">2013-11-30T01:51:02Z</dcterms:modified>
  <cp:revision>18</cp:revision>
  <dc:subject/>
  <dc:title>Science Fair Project</dc:title>
</cp:coreProperties>
</file>