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E72-41B3-4FA6-B278-AA369AD1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507-74D9-43B2-816B-6B30C690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8D5-9551-4321-B36E-F331B730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247-D4CD-4314-B7C7-E6000A09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EE4-316D-4434-911F-AB9EA41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24B-8F36-4AC0-A233-099C76A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C3C-B04B-4565-AC8D-3DD5A69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292-D07A-4FE1-8765-F70B4B3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E4B-AA4B-461C-8C45-211D438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618-360B-43E8-A4B5-EB4D23A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214-E3AB-467E-B691-312B549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549-A443-43BD-BBF2-EE49AF0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2FD8-3779-4BDB-BC4C-88860E488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ow format suggestions below to write your conclus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s purpose of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eneral statement of major fin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Include measures of central tendency and acknowledgment of instrument error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ment as to data supporting hypothesis, “which was…state hypothesi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Acknowledge Systematic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ives logical scientific explanation for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uggestions for further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(MLA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ust match your report, minimum of 4 articles or reference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The effect of ______________ on 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important information from your research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85800" y="5638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te your referenc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and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giv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e/importance of study/why is it relev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experiment is to determine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predict that …………  because*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9280" y="6291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Based on th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066680"/>
          <a:ext cx="8991720" cy="5299200"/>
        </p:xfrm>
        <a:graphic>
          <a:graphicData uri="http://schemas.openxmlformats.org/drawingml/2006/table">
            <a:tbl>
              <a:tblPr/>
              <a:tblGrid>
                <a:gridCol w="1295280"/>
                <a:gridCol w="1752840"/>
                <a:gridCol w="1752480"/>
                <a:gridCol w="1295280"/>
                <a:gridCol w="1371600"/>
                <a:gridCol w="1524240"/>
              </a:tblGrid>
              <a:tr h="11430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pothes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Vari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s of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ials and Equ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4320" y="1447920"/>
          <a:ext cx="8153280" cy="4776840"/>
        </p:xfrm>
        <a:graphic>
          <a:graphicData uri="http://schemas.openxmlformats.org/drawingml/2006/table">
            <a:tbl>
              <a:tblPr/>
              <a:tblGrid>
                <a:gridCol w="1339560"/>
                <a:gridCol w="1143000"/>
                <a:gridCol w="1219320"/>
                <a:gridCol w="1143000"/>
                <a:gridCol w="1066680"/>
                <a:gridCol w="1076400"/>
                <a:gridCol w="116532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V:  X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/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700200" y="6419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y use your own table from your lab report if it is in the above form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xplosion 2 5"/>
          <p:cNvSpPr/>
          <p:nvPr/>
        </p:nvSpPr>
        <p:spPr>
          <a:xfrm>
            <a:off x="79200" y="6483240"/>
            <a:ext cx="533520" cy="3049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3320" y="511200"/>
            <a:ext cx="92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_________________ on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Graph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9480" y="502920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atement of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Calibri"/>
                <a:ea typeface="Arial"/>
              </a:rPr>
              <a:t>The graph shows that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54:10Z</dcterms:created>
  <dc:creator>Donna;Bloomenstiel</dc:creator>
  <dc:description/>
  <dc:language>en-US</dc:language>
  <cp:lastModifiedBy>Don B</cp:lastModifiedBy>
  <dcterms:modified xsi:type="dcterms:W3CDTF">2013-11-30T01:51:02Z</dcterms:modified>
  <cp:revision>18</cp:revision>
  <dc:subject/>
  <dc:title>Science Fair Project</dc:title>
</cp:coreProperties>
</file>